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791-18D5-4833-AAFD-8C7132A9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64C-01B9-4184-BC50-D4AA6A44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5C7-8A01-4755-8D11-B51E3B9E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E74-0416-4167-8EF0-CE1F0B43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FD5-5423-4627-B6B2-4F9FF8B6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F94-E13E-47FD-95BB-E119CA7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3A7-814A-4ACD-833D-3365FE75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778-463E-41DC-9B97-C99C04D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A28-B98C-42A1-BA29-689838A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8D3-83B4-44E8-BADC-943A8B42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B8F-BE71-43C0-930E-0DC808B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AD3-44BD-4A09-AC32-A5808FF7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8FB2-9A2D-4CF2-A1B9-7A44F2FCE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27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098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gamesh took advantage of his power, so the gods sent Enkidu, the wild, hairy beast-man,  to destroy Gilgames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04920" y="228600"/>
            <a:ext cx="8305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wrestled and defeated Enkid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55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52520" y="537228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so they became friend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228600"/>
            <a:ext cx="80010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and Enkidu killed Humbab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9480" y="152280"/>
            <a:ext cx="7896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&amp; the bull of Heav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00080" y="6134040"/>
            <a:ext cx="894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gamesh weeps at Enkidu's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21:12Z</dcterms:created>
  <dc:creator>NPSD</dc:creator>
  <dc:description/>
  <dc:language>en-US</dc:language>
  <cp:lastModifiedBy>NPSD</cp:lastModifiedBy>
  <dcterms:modified xsi:type="dcterms:W3CDTF">2007-10-01T18:14:40Z</dcterms:modified>
  <cp:revision>2</cp:revision>
  <dc:subject/>
  <dc:title>Slide 1</dc:title>
</cp:coreProperties>
</file>